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76285-AC8C-4FB7-8577-6C85413903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69997-4771-4CF7-B584-79A271226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189A7-6770-421E-8B81-ADA07EFF1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44B50-3B68-4861-A62C-4C58269EF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551A7-2787-4EF7-B9E3-80BC22C53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06F97-8120-4420-97B8-D77072004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3CA-CCCC-4EF4-8851-703616D8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C9F-BD99-4A35-9E7C-0768621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5AC-E171-4244-B615-AA59AEE2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B8F-C9C0-43C8-A980-7DC409A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506-7A59-4CC6-A2EB-62DEC323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93F-2EE2-4889-B9A5-1B882E92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BD6-72E1-4E25-9299-8D4E1F0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47D-06C5-40BB-A570-7A1436C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7C2-FEA4-4329-9BC9-1FC810B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359-03C1-4889-8A12-6DFE82A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637-3D0C-49FF-89AE-B1809F4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7D8-CB14-497B-B7D0-A9BC301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2CC5F-BE2E-4F31-8CF7-184405C66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366AC-FE57-41B7-8A84-9CE4A0E5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FINAL JEOPARDY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75480" y="2436840"/>
            <a:ext cx="536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646495"/>
                </a:solidFill>
                <a:latin typeface="Times New Roman"/>
              </a:rPr>
              <a:t>Life Cycl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7440" y="584280"/>
            <a:ext cx="8648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10253f"/>
                </a:solidFill>
                <a:latin typeface="Times New Roman"/>
              </a:rPr>
              <a:t>Write the number of points you wish to wager (up to your total amount of points) on a piece of pap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80920" y="584280"/>
            <a:ext cx="729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646495"/>
                </a:solidFill>
                <a:latin typeface="Times New Roman"/>
              </a:rPr>
              <a:t>Of the animals studied during this program, this one is the most endangere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0:52:41Z</dcterms:created>
  <dc:creator>Vernice Mulcahy</dc:creator>
  <dc:description/>
  <dc:language>en-US</dc:language>
  <cp:lastModifiedBy>Vernice Mulcahy</cp:lastModifiedBy>
  <dcterms:modified xsi:type="dcterms:W3CDTF">2009-12-08T00:59:22Z</dcterms:modified>
  <cp:revision>1</cp:revision>
  <dc:subject/>
  <dc:title>Slide 1</dc:title>
</cp:coreProperties>
</file>